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55F-59A0-41BE-8445-C7AF43F6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9BB-0854-44BE-BC84-18097A87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7A7-9299-433E-AEE1-60E9916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3EF-09DF-46A1-9E6F-F2C4AAAB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918-6E0F-45F9-B16C-2DF4DBF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C70-8A2B-42A8-8BAB-69E22BE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E1C-C536-45C6-92B8-10AFE42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FAB-0FBE-4D20-A344-A6E3824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8A5-288F-42C6-913F-9B50783D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E40-3901-4B11-A284-14F602C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6FB-3457-481C-9F93-BD9B3CA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3B6-F64E-470E-B5F7-A24BC3B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58E7-F1C1-4EE5-8152-C37F9C4F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static.flickr.com/69/213515876_c2ef807c92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808360" cy="278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041640"/>
            <a:ext cx="3024360" cy="295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796000" y="476280"/>
            <a:ext cx="3062160" cy="27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79280" y="314172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573360"/>
            <a:ext cx="367344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354168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132000" y="1700280"/>
            <a:ext cx="3240360" cy="28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96000" y="3716280"/>
            <a:ext cx="286380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395280" y="476280"/>
            <a:ext cx="3745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77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1700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ubl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49360"/>
            <a:ext cx="352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 es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832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177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700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despej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49360"/>
            <a:ext cx="352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 es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659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69228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620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eva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4936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1816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5640" y="54936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ev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2492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¿Qué tiempo va a hacer mañan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32144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83664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620640"/>
            <a:ext cx="18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765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62064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fr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1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765000"/>
            <a:ext cx="4392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620640"/>
            <a:ext cx="44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mal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9276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836640"/>
            <a:ext cx="4464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620640"/>
            <a:ext cx="44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buen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12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836640"/>
            <a:ext cx="42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620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75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836640"/>
            <a:ext cx="42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620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248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69228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222800" cy="429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67280" y="620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lovie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62064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692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lov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59:37Z</dcterms:created>
  <dc:creator>Chris Fuller</dc:creator>
  <dc:description/>
  <dc:language>en-US</dc:language>
  <cp:lastModifiedBy>Chris Fuller</cp:lastModifiedBy>
  <dcterms:modified xsi:type="dcterms:W3CDTF">2007-10-22T09:18:34Z</dcterms:modified>
  <cp:revision>3</cp:revision>
  <dc:subject/>
  <dc:title>Slide 1</dc:title>
</cp:coreProperties>
</file>